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175C12-0CD4-4C3F-8A3E-249732283C8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не забезпечення математичного призначення умовно поділяють на програмне забезпечення навчально-дослідницького та науково-дослідницького призначен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C71-9F3B-4E0A-AFD0-B6C76C78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36B-B86F-43C3-8612-2ACA316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06A-29A6-4B4D-8A5A-7CF3BA7B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1B0-CE4B-4EC6-9BEF-D0F4A611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84BB-2753-48EC-A3D3-EDD61A25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D1AB-A157-4905-A8CB-DD3DBC3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12F8-0F9B-4F4B-936D-AC2F59D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522B-E2E3-4DB3-ADD9-DC87D59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724-4450-48E4-ADC2-B9E68EC9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122400"/>
            <a:ext cx="6934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D7D6-BCE9-49A8-AB38-5C456765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C22-9D46-43CA-82CD-146BF25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12F-E62A-4CF9-B7E0-1F44423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141-718C-46E0-824F-CA0D80B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181-1332-4B62-8D38-AF82A62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1C2-5ADE-411A-852C-5A6C815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BC2-18ED-4FEF-9063-A1AE03AD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DC0-ED1B-414B-98D0-A4753D81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87C-D66C-4F32-93FD-17E62D5A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631-40EB-42CA-A77A-CCD8CB77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57F-3A5D-4430-A8DB-EB34AD5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122400"/>
            <a:ext cx="6934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351-F60D-4CD2-943B-7B4B1606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58B-9EAC-42F1-8880-04A961D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E92-9A4E-422F-9DBC-0E3CFEC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664-8192-4517-BB8F-521D31C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6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6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3049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F4D-CFFA-4CC4-96BB-46D3BF4386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06CF-F93E-410D-A6AC-03E7CC917D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3571" t="60561" r="0" b="15199"/>
          <a:stretch/>
        </p:blipFill>
        <p:spPr>
          <a:xfrm>
            <a:off x="7594560" y="3024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5199" t="67133" r="60561" b="16439"/>
          <a:stretch/>
        </p:blipFill>
        <p:spPr>
          <a:xfrm>
            <a:off x="7620120" y="2224080"/>
            <a:ext cx="111276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50743" t="60561" r="32877" b="15199"/>
          <a:stretch/>
        </p:blipFill>
        <p:spPr>
          <a:xfrm>
            <a:off x="7620120" y="5638680"/>
            <a:ext cx="1201680" cy="1105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34305" t="60561" r="49267" b="15199"/>
          <a:stretch/>
        </p:blipFill>
        <p:spPr>
          <a:xfrm>
            <a:off x="7620120" y="3352680"/>
            <a:ext cx="1204920" cy="111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17866" t="60561" r="65705" b="15199"/>
          <a:stretch/>
        </p:blipFill>
        <p:spPr>
          <a:xfrm>
            <a:off x="7620120" y="114300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5199" t="1038" r="60561" b="82794"/>
          <a:stretch/>
        </p:blipFill>
        <p:spPr>
          <a:xfrm>
            <a:off x="7620120" y="4452840"/>
            <a:ext cx="1112760" cy="1185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3716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0066"/>
                </a:solidFill>
                <a:latin typeface="Arial"/>
              </a:rPr>
              <a:t>Шокалюк Світлана Вікторівна</a:t>
            </a:r>
            <a:br>
              <a:rPr sz="2000"/>
            </a:br>
            <a:br>
              <a:rPr sz="20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етодичні засади комп’ютеризації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самостійної роботи старшокласників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у процесі вив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програмного забезпе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атематичного призначення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Національний педагогічний університет ім. М.П. Драгом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Інститут і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4200" y="4419720"/>
            <a:ext cx="590076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13.00.02 – теорія і методика навчання (інформатика)</a:t>
            </a:r>
            <a:br>
              <a:rPr sz="1600"/>
            </a:b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Дисертація на здобуття наукового ступеня</a:t>
            </a: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кандидата педагогічних наук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330066"/>
                </a:solidFill>
                <a:latin typeface="Arial"/>
              </a:rPr>
              <a:t>Науковий керівник</a:t>
            </a: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: кандидат педагогічних наук, доцент</a:t>
            </a: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Семеріков Сергій Олексій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Черкаси -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3526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8600"/>
            <a:ext cx="2743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іб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П.І. Підкасистий 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962520"/>
            <a:ext cx="49528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собливий вид навчально-пізнавальн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ака робота учня, що виконується без безпосередньої участі вчителя, але за його завданням у спеціально відведений для цього час; при цьому учні свідомо прагнуть досягти поставленої в завданні мети і виражають в тій або іншій формі результати своїх дій (розумових або фізичних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.П. Єсип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286000"/>
            <a:ext cx="2666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Ю.К. Бабансь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І.Я. Лернер, А.В. Усов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133360" y="15998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1371240"/>
            <a:ext cx="297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09680"/>
            <a:ext cx="3200400" cy="1143000"/>
          </a:xfrm>
          <a:prstGeom prst="rect">
            <a:avLst/>
          </a:prstGeom>
          <a:solidFill>
            <a:srgbClr val="d8d8e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33520"/>
            <a:ext cx="2743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орма організації навчального проц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О.Г. Мороз 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75A-4BF6-4272-BB82-C3BB6926B6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H="1">
            <a:off x="4495320" y="990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72000" y="914400"/>
            <a:ext cx="137160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572000" y="914400"/>
            <a:ext cx="13716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590920"/>
            <a:ext cx="43178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друкованому чи цифровому форма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стере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експери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труювання й модел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981080"/>
            <a:ext cx="31244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часом проведення у навчальному процес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уро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позаурочний 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проявом у формах навч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ідготовка до уроків, контрольних робі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іспи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практичних завд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писання рефера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готовка до олімпі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творч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ступенем самостійност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зразком (репродуктив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аріати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ти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вор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029200"/>
            <a:ext cx="4317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ручники, посібники та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інструментальн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формаційно-комунікаційні технології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04920"/>
            <a:ext cx="3809880" cy="1523880"/>
          </a:xfrm>
          <a:prstGeom prst="rect">
            <a:avLst/>
          </a:prstGeom>
          <a:solidFill>
            <a:srgbClr val="d8d8e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ди самостійної роботи учнів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 структурні компоненти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ики її орган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04920"/>
            <a:ext cx="43178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машня навчальна ро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емінари та практик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едметні гуртки й факультати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рси за вибором (елективні курс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едметні олімпіади та конкур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F8F-7358-4338-846F-2D02610B91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58840"/>
            <a:ext cx="693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0066"/>
                </a:solidFill>
                <a:latin typeface="Arial"/>
              </a:rPr>
              <a:t>Інноваційні засоби комп'ютеризації самостійної робот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153280" cy="6858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Мережні інформаційно-комунікаційні технолог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666880"/>
            <a:ext cx="3048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режні техн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66688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режного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038480"/>
            <a:ext cx="190512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лектрон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038480"/>
            <a:ext cx="190476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станцій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4038480"/>
            <a:ext cx="190512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біль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243828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962160" y="3809880"/>
            <a:ext cx="2895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95520" y="380988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380988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80060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К, мереж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'єдн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навчальні ресурс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ережі, електрон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ідруч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800600"/>
            <a:ext cx="19047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Arial"/>
              </a:rPr>
              <a:t>СД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дистанційні кур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Нетбуки та інш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обільні пристро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дистанційні кур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 мобільним доступ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71600" y="380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03848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а по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шукові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матичні кат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вітні пор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ло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48640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048120"/>
            <a:ext cx="2361960" cy="457200"/>
          </a:xfrm>
          <a:custGeom>
            <a:avLst/>
            <a:gdLst>
              <a:gd name="textAreaLeft" fmla="*/ 369000 w 2361960"/>
              <a:gd name="textAreaRight" fmla="*/ 2066760 w 2361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556272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893-56CD-4458-BE94-EC720EA3AC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0066"/>
                </a:solidFill>
                <a:latin typeface="Arial"/>
              </a:rPr>
              <a:t>Особливості дистанційного навчання школярів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станційне навчання є додатковим до традиційного класно-урочного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о вибору навчальної платформи дистанційного навчання школярів ставлять такі вимог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інтуїтивного інтерфейсу, довідки та документації рідною мов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ручність управління змістом і спілкуванням з користувач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можливість розширення сукупності використовуваних компонентів відповідно до зростаючих потреб та умінь вчителя й учн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підтримка різних форм комунікації та групових форм навчання, взаємного оцінювання та самоуправлі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інструментів, що служать для підтримки складових елементів процесу навчання в середній школ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 розробці шкільного дистанційного курсу необхідно забезпечи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використання різноманітних складових елементів системи дистанційного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формлення теоретичного матеріалу у гіпертекстовому та мультимедійному форма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списку рекомендованої додаткової друкованої літератури та точних гіперпосил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включення до навчального матеріалу всіх додаткових питань, які можуть виникнути в учнів у процесі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цінювання кожної вивченої теми окре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DBB-72B7-433B-B888-3B4A33CA9B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57200" y="495360"/>
            <a:ext cx="8458200" cy="6134040"/>
            <a:chOff x="457200" y="495360"/>
            <a:chExt cx="8458200" cy="6134040"/>
          </a:xfrm>
        </p:grpSpPr>
        <p:sp>
          <p:nvSpPr>
            <p:cNvPr id="158" name=""/>
            <p:cNvSpPr/>
            <p:nvPr/>
          </p:nvSpPr>
          <p:spPr>
            <a:xfrm>
              <a:off x="5006880" y="624528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9240" y="312408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9240" y="3962520"/>
              <a:ext cx="244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9240" y="480060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8960" y="3048120"/>
              <a:ext cx="246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98960" y="411480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8960" y="525456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9240" y="548316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98960" y="2438280"/>
              <a:ext cx="180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97160" y="495360"/>
              <a:ext cx="6578280" cy="79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330066"/>
                  </a:solidFill>
                  <a:latin typeface="Arial"/>
                </a:rPr>
                <a:t>Програмне забезпеч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330066"/>
                  </a:solidFill>
                  <a:latin typeface="Arial"/>
                </a:rPr>
                <a:t>математичного признач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94080" y="1600200"/>
              <a:ext cx="438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8520" y="158580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94080" y="158580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6480" y="1314360"/>
              <a:ext cx="14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3440" y="1905120"/>
              <a:ext cx="4071960" cy="5634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науково</a:t>
              </a:r>
              <a:r>
                <a:rPr b="1" lang="uk-UA" sz="2200" spc="-1" strike="noStrike">
                  <a:solidFill>
                    <a:srgbClr val="000000"/>
                  </a:solidFill>
                  <a:latin typeface="Arial"/>
                </a:rPr>
                <a:t>-дослідницьк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240" y="2438280"/>
              <a:ext cx="18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1905120"/>
              <a:ext cx="4071960" cy="5634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навчально</a:t>
              </a:r>
              <a:r>
                <a:rPr b="1" lang="uk-UA" sz="2200" spc="-1" strike="noStrike">
                  <a:solidFill>
                    <a:srgbClr val="000000"/>
                  </a:solidFill>
                  <a:latin typeface="Arial"/>
                </a:rPr>
                <a:t>-дослідницьк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4320" y="3657600"/>
              <a:ext cx="3367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а динамічної геометрії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С.А. Раков, К.О. Осенков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4320" y="2819520"/>
              <a:ext cx="3367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програмний комплекс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М.І. Жалдак, Ю.В. Горошк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4320" y="4495680"/>
              <a:ext cx="3367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-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ерсії систем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bri, Geogeb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4040" y="2590920"/>
              <a:ext cx="36813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пеціалізовані математичні паке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Macaulay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Singular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 та ін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34040" y="3686040"/>
              <a:ext cx="36813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програмні засо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ізуалізації математичних да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uPlot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Mol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LaTeX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 та ін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4040" y="4829040"/>
              <a:ext cx="36813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и геометричного модел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NSYS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 та ін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1960" y="5819760"/>
              <a:ext cx="367344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и комп’ютерної матема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Deriv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hCAD</a:t>
              </a: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pl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lab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hematica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xima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SAG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 та ін.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4320" y="5257800"/>
              <a:ext cx="3367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інш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88A-AAC0-48AE-8BB2-D3D1109FB6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Інформаційні технології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атематичного призна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у шкільному курсі інформатики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57240"/>
          <a:ext cx="8229600" cy="4419720"/>
        </p:xfrm>
        <a:graphic>
          <a:graphicData uri="http://schemas.openxmlformats.org/drawingml/2006/table">
            <a:tbl>
              <a:tblPr/>
              <a:tblGrid>
                <a:gridCol w="5105520"/>
                <a:gridCol w="312408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розділу шкільного курсу інформат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год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е програмне забезпечення загального призначення” (1996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кладне програмне забезпечення навчального призначення” (2002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+ 2 (10 та 11 класи відповідно для фізико-математичного та технологічного профілів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0066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е програмне забезпечення навчального призначення” (рівень стандарту, 2008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ні засоби для математичних обчислень” (академічний рівень, 2008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11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443-9840-42E4-84DA-1DB0378B1B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H="1">
            <a:off x="1295280" y="320040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172200" y="28951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4419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5760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088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міс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ого факультати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350532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ий факульта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886200"/>
            <a:ext cx="27432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1828800"/>
            <a:ext cx="2362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 у С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 у середовищ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1337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523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514600"/>
            <a:ext cx="3200400" cy="1219320"/>
          </a:xfrm>
          <a:prstGeom prst="rect">
            <a:avLst/>
          </a:prstGeom>
          <a:solidFill>
            <a:srgbClr val="d8d8e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ка організації самостійної роботи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 опанування програмного забезпечення математичного призн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04920"/>
            <a:ext cx="27432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глиблене вивчення розділу “Прикладне програмне забезпечення навчального призначення” шкільного курсу інформатики засобами діяльнісного середовища для алгебраїчних та геометричних досліджен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33360" y="4419720"/>
            <a:ext cx="4724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81120" y="4419720"/>
            <a:ext cx="17528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029200"/>
            <a:ext cx="2514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струменталь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Д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СК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724280"/>
            <a:ext cx="2362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структивно-методичні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атері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итерії о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5029200"/>
            <a:ext cx="3124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дакт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посіб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пекти дистанційних уро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вдання для практичного вико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еодод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стові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581-C294-4C2E-BC36-76EC38B6AB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жим доступ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c.ninehub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ривалість навч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  =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в (10 клас, 2 семестр) +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в (11 клас, 1 семест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488"/>
          <a:stretch/>
        </p:blipFill>
        <p:spPr>
          <a:xfrm>
            <a:off x="609480" y="304920"/>
            <a:ext cx="7925040" cy="477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258-A2CF-43EE-8927-C247BCCA25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Програма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дистанційного факультативу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000" spc="-1" strike="noStrike">
                <a:solidFill>
                  <a:srgbClr val="330066"/>
                </a:solidFill>
                <a:latin typeface="Arial"/>
              </a:rPr>
              <a:t>Комп’ютерні технології у наукових дослідженнях</a:t>
            </a: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(1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229600" cy="4414680"/>
        </p:xfrm>
        <a:graphic>
          <a:graphicData uri="http://schemas.openxmlformats.org/drawingml/2006/table">
            <a:tbl>
              <a:tblPr/>
              <a:tblGrid>
                <a:gridCol w="685800"/>
                <a:gridCol w="5257800"/>
                <a:gridCol w="22860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моду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тиж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22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ас, 2 семест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уп до кур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роботи 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X як засіб візуалізації математичних текст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творення вираз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ота з графікою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ування рівнянь та їх сист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менти програм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34-E717-4AA3-B9C0-437B2141D8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Програма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дистанційного факультативу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000" spc="-1" strike="noStrike">
                <a:solidFill>
                  <a:srgbClr val="330066"/>
                </a:solidFill>
                <a:latin typeface="Arial"/>
              </a:rPr>
              <a:t>Комп’ютерні технології у наукових дослідженнях</a:t>
            </a: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(2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76520"/>
          <a:ext cx="8229600" cy="4049640"/>
        </p:xfrm>
        <a:graphic>
          <a:graphicData uri="http://schemas.openxmlformats.org/drawingml/2006/table">
            <a:tbl>
              <a:tblPr/>
              <a:tblGrid>
                <a:gridCol w="685800"/>
                <a:gridCol w="5257800"/>
                <a:gridCol w="2286000"/>
              </a:tblGrid>
              <a:tr h="108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моду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тиж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93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, 1 семест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ії математичного аналі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ії над векторами та матриц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еренціальні рівня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менти комбінатор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ота над навчальним проек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C4-558D-4B74-8923-27807B3603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5100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облива значимість самостійної роботи учнів за  умов переходу від закритого навчального середовища до системи відкритої і неперервн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лежність результатів організації самостійної роботи від способів застосування інноваційних інформаційно-комунікаційних технологій, зокрема технологій мережного 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фективність програмного забезпечення математичного призначення як засобу підтримки навчання математики, фізики та і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розробленість методики мережеорієнтованої моделі навчання програмного забезпечення математичного призна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криття нового класу програмного забезпечення математичного призначення – мережних систем комп’ютерної математики та можливість їх інтеграції з системами дистанційного навчання в єдиному динамічному навчальному середовищі для підтримки учнівських дослідж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280-6921-4CA4-A794-AAB05DF6E48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бір платформи дистанційного навча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71280"/>
            <a:ext cx="4343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tus Learning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IBM,http://www.lotus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440" y="3124080"/>
            <a:ext cx="41911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М. Дугіямас, http://www.moodle.or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905120"/>
            <a:ext cx="419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ГАП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ТОВ «АВ-Консалтинг», http://www.agapa.com.u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691160"/>
            <a:ext cx="41911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б-клас ХП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НТУ «ХПІ», http://dl.kpi.kharkov.u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4724280"/>
            <a:ext cx="42674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метей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НІЦ «АСК», http://www.prometeus.ru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0E5-2E8D-4CD3-9433-03278BA2B06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330066"/>
                </a:solidFill>
                <a:latin typeface="Arial"/>
              </a:rPr>
              <a:t>Характеристики мережних систем комп’ютерної математики (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Web-</a:t>
            </a:r>
            <a:r>
              <a:rPr b="1" lang="uk-UA" sz="3100" spc="-1" strike="noStrike">
                <a:solidFill>
                  <a:srgbClr val="330066"/>
                </a:solidFill>
                <a:latin typeface="Arial"/>
              </a:rPr>
              <a:t>СКМ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сутність необхідності встановлення обчислювального ядра СКМ на клієнтській маши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конання обчислень –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ервері СК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ображення результатів –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раузер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евимогливість до апаратної складової обчислювальної сис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ндиферентність до використовуваного брауз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стота адміністрування (зняття проблеми підтримки великої інсталяційної бази та ліцензування програмного забезпеченн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обільний доступ до навчальних ресурсів, програм і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518-C9B8-4F0C-B61C-A846FA4D89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ідмінні характеристики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eb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-СКМ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критість повнофункціонального Web-сервера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грація більше 100 математичних пакетів вузької спеціалізації у єдиному середовищі: PARI, GAP, GSL, Singular, MWRANK, NetworkX, Maxima, Sympy, GMP, Numpy, mathplotlib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інтерфейсів до комерційних систем комп’ютерної математики, таких як – Maple, Magma, Mathematica і 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ння на Web-сторінках програм, описаних мовами програмування Python, Lisp, Java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ощеність процедури публікації робочих аркушів у мережі І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явність режиму спільної роботи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collaborat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з даними певного робочого арк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сутність потреби встановлення спеціального програмного забезпечення для подання математичних виразів у звичній математичній нотації (достатньо виконати дозавантаження математичних шрифт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технологій LaTeX та Wik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DB6-57BB-495B-BBB4-DFA14B50BE7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33126" t="15893" r="31251" b="5556"/>
          <a:stretch/>
        </p:blipFill>
        <p:spPr>
          <a:xfrm>
            <a:off x="457200" y="685800"/>
            <a:ext cx="434340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5029200" y="685800"/>
            <a:ext cx="373392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Шокалюк С. В. Основи роботи в SAGE / За ред. академіка АПН України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.І. Жалдака. – К.: НПУ імені М.П. Драго-манова, 2008. – 64 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посібнику для практичної підготовки наведено короткий огляд основних прийомів роботи у вільно поширюваній Web-системі комп’ютерної математики SAGE, спрямованої на підтримку алгебраїчних та геометричних дослідж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широкого кола студентів ВНЗ різного профілю, педагогів, наукових та інженер-них працівників, вчителів та учнів старших класів, які застосовують інформаційні технології математичного признач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 rot="1025400">
            <a:off x="4647960" y="4336560"/>
            <a:ext cx="2232000" cy="214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4419720" y="4876920"/>
            <a:ext cx="533160" cy="533160"/>
          </a:xfrm>
          <a:prstGeom prst="plus">
            <a:avLst>
              <a:gd name="adj" fmla="val 38370"/>
            </a:avLst>
          </a:prstGeom>
          <a:gradFill rotWithShape="0">
            <a:gsLst>
              <a:gs pos="0">
                <a:srgbClr val="7e9ce8"/>
              </a:gs>
              <a:gs pos="100000">
                <a:srgbClr val="5e75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682-4E8A-4D53-A3AC-DC1112DFE9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31840" y="22860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18040" y="45720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28600" y="337824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114800" y="350532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C51-560E-4E53-BE34-E1544567B2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762120" y="3429000"/>
            <a:ext cx="5481360" cy="331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">
            <a:hlinkClick r:id="" action="ppaction://hlinkshowjump?jump=lastslide"/>
          </p:cNvPr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95760" cy="3324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86320" y="1182600"/>
            <a:ext cx="5481360" cy="331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F04-0366-4771-BA87-D4AA2CF11E9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5697720" cy="4273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191120" cy="37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6F0-E82E-4579-A678-496733FB81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96" t="24553" r="6660" b="5777"/>
          <a:stretch/>
        </p:blipFill>
        <p:spPr>
          <a:xfrm>
            <a:off x="152280" y="228600"/>
            <a:ext cx="7925040" cy="218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rcRect l="296" t="18237" r="6873" b="10568"/>
          <a:stretch/>
        </p:blipFill>
        <p:spPr>
          <a:xfrm>
            <a:off x="1015920" y="2438280"/>
            <a:ext cx="7900920" cy="297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296" t="29665" r="5954" b="6266"/>
          <a:stretch/>
        </p:blipFill>
        <p:spPr>
          <a:xfrm>
            <a:off x="177840" y="5181480"/>
            <a:ext cx="7975440" cy="164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80D-4083-4AFF-A93C-80E0AD783EE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Тематика</a:t>
            </a:r>
            <a:br>
              <a:rPr sz="3500"/>
            </a:b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дослідницьких проекті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2090880"/>
          <a:ext cx="8229600" cy="3303360"/>
        </p:xfrm>
        <a:graphic>
          <a:graphicData uri="http://schemas.openxmlformats.org/drawingml/2006/table">
            <a:tbl>
              <a:tblPr/>
              <a:tblGrid>
                <a:gridCol w="500040"/>
                <a:gridCol w="7729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виконання операцій перетворення вираз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методів наближених обчислень визначеного інтегралу у середовищі 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фігур Ліссажу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наочностей з теми «Границя функції і неперервність функції. Точки розриву, їх класифікаці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ація досліджень і побудови графіків циклоїдальних крив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пошуку наближених значень коренів трансцендентних рівня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87E-3599-435E-94CD-A6674F923B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Тематика</a:t>
            </a:r>
            <a:br>
              <a:rPr sz="3500"/>
            </a:b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дослідницьких проекті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2090880"/>
          <a:ext cx="8229600" cy="3303360"/>
        </p:xfrm>
        <a:graphic>
          <a:graphicData uri="http://schemas.openxmlformats.org/drawingml/2006/table">
            <a:tbl>
              <a:tblPr/>
              <a:tblGrid>
                <a:gridCol w="609480"/>
                <a:gridCol w="7620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власної бібліотеки комбінаторних функцій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для розв’язування комбінаторних задач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геометричних задач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ebra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геометричних задач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eometer’s Sketchpad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дова фрактальних об’єктів засобами пакет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a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КМ 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задач апроксимації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le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a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B6B-A738-457E-8AE2-DC33827950B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Мета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719360"/>
            <a:ext cx="6705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оретичне обґрунтування та розробка окремих компонентів комп’ютерно-орієнтованої методики самостійної роботи з вивчення сучасних мережних технологій математичного призначення в старших класах загальноосвітні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6E0-C92E-4997-9B16-7B873958BF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робка програми для демонстрації методів наближених обчислень визначеного інтегралу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3880" y="1719360"/>
            <a:ext cx="6024600" cy="49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A45-0191-4843-8AA0-425066C567B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робка програми для демонстрації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пошуку наближених значень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коренів трансцендентних рівнянь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98480" y="1582560"/>
            <a:ext cx="5769000" cy="512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C95-8BEA-451B-9666-899AF7F5A9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в’язування задач апроксимації засобами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Maple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та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Mathematica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у середовищі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SAGE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6857"/>
          <a:stretch/>
        </p:blipFill>
        <p:spPr>
          <a:xfrm>
            <a:off x="237960" y="1981080"/>
            <a:ext cx="69249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4343400" y="1447920"/>
            <a:ext cx="4343040" cy="4619160"/>
            <a:chOff x="4343400" y="1447920"/>
            <a:chExt cx="4343040" cy="4619160"/>
          </a:xfrm>
        </p:grpSpPr>
        <p:pic>
          <p:nvPicPr>
            <p:cNvPr id="256" name="" descr=""/>
            <p:cNvPicPr/>
            <p:nvPr/>
          </p:nvPicPr>
          <p:blipFill>
            <a:blip r:embed="rId2">
              <a:lum contrast="30000"/>
            </a:blip>
            <a:srcRect l="0" t="0" r="1851" b="33244"/>
            <a:stretch/>
          </p:blipFill>
          <p:spPr>
            <a:xfrm>
              <a:off x="4343400" y="1447920"/>
              <a:ext cx="4343040" cy="21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rcRect l="0" t="16012" r="1851" b="7432"/>
            <a:stretch/>
          </p:blipFill>
          <p:spPr>
            <a:xfrm>
              <a:off x="4343400" y="3599640"/>
              <a:ext cx="4343040" cy="246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69C-DA28-4CD6-9D77-429134113A5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в’язування геометричних задач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засобами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GeoGebra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у середовищі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SAGE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41560" y="1512720"/>
            <a:ext cx="685944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421-B5F4-46F7-9D00-31D5E0208C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182160"/>
            <a:ext cx="6934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едагогічний експеримен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констатувального етапу (2002-2004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Проаналізувати науково-методичну літературу з проблеми дослідження, навчальні програми, підручники і посібники, визначити основні аспекти проблеми дослі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З’ясувати характер і причини утруднень, що виникають при організації самостійної роботи (шляхом анкетування учнів та вчителі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Встановити: 1) рівень навчальних досягнень учнів з розділу “Прикладне програмне забезпечення навчального призначення”; 2) рівень застосування засобів СКМ у процесі формування навичок самостійної дослідницької діяльності уч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пошукового етапу (2004-2007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Проаналізувати програмно-апаратне забезпечення для підтримки математичних дослідж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Дослідити можливості застосування мережних систем комп’ютерної математики для навчання програмного математичного призначення за дистанційною форм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Розробити програмно-методичне забезпечення дистанційного факультативу «Комп’ютерні технології у наукових дослідження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формувального етапу (2007-2009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 Створити сервер дистанційного навчанн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cc.ninehub.com)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 Впровадити і перевірити ефективність окремих компонентів методичної системи дистанційного навчання програмного забезпечення математичного признач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F03-3274-4112-8E8E-828A7D7DAF3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1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-2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учасному етапі розвитку освітніх технологій організація позаурочної самостійної роботи з інформатики із залученням мережних інформаційно-комунікаційних технологій повинна включати елементи одного з видів комп’ютерної технології навчання, а саме дистанційного, електронного чи мобільного, які поступово набувають поширення у вітчизняній системі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альною особливістю сучасних систем дистанційного навчання є те, що за відповідного методичного забезпечення вони стають динамічними навчальними середовищами, що можуть бути використані для підтримки різних форм організації навчання. Перспективним є інтеграція традиційних та інноваційних педагогічних технологій, зокрема, через застосування засобів дистанційного навчання у вузівській аудиторній і шкільній класно-урочній формах організації навчального процесу та впровадження елементів мобільного навчанн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594-373A-4430-A5AC-5CE838A87C6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(3-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 систем комп’ютерної математики в навчальний процес сприяє інтеграції інформатики та математики, а їх вивчення і застосування в учнівських дослідженнях сприяє поглибленню інформатичної та математичної компетентностей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им напрямом розробки методики організації позаурочної самостійної роботи учнів з опанування програмного забезпечення математичного призначення з використанням засобів технологій дистанційного навчання є об’єднання систем дистанційного навчання та комп’ютерної математики у єдиному діяльнісному середовищі для навчальних учнівськ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пішна організація самостійної роботи з опанування можливостей програмного забезпечення математичного призначення засобами технологій дистанційного навчання стала можливою завдяки застосуванню Web-СКМ, що дозволило розв’язати проблеми підтримки інсталяційної бази та ліцензійної чистоти використовуваних програмних продук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926-318A-4DEC-ACB2-064B3EC3DC8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6-7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тосування вільно поширюваної кросплатформенної Web-СКМ SAGE при вивченні програмного забезпечення математичного призначення дозволяє сформувати уміння та засоби підтримки інтелектуальної професійної діяльності майбутніх фахівців у галузі інформаційних технолог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ровадження мережеорієнтованого підходу в навчальний процес впливає на методичну систему навчання програмного забезпечення математичного призначення на всіх її рі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цілей навчання – з’являється мета вивчення програмного забезпечення математичного призначення як засобу реалізації прикладних задач алгебри та геометрії і необхідної основи розділу «Моделювання» шкільного курсу інформа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змісту навчання – виникає потреба якісної перебудови усього розділу «Прикладне програмне забезпечення навчального призначення» шкільного курсу інформа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31E-ECBC-4D9E-869A-C8F6C1D947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7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363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методів навчання – дозволяє ширше застосовувати продуктивні, розвиваючі методи навчання дослідницького характе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засобів навчання – виникає можливість застосування мережних систем комп’ютерної математики та систем дистанційного навчання, таких як об’єктно-орієнтовані Web-СКМ SAGE та СДН MOOD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організаційних форм – впровадження таких прогресивних форм навчання, як групова та індивідуально-диференційована та поява нових форм, специфічних для дистанційного навч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3C3-0B02-48EF-AD54-B127D0ECB40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Напрями подальших досліджен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вчення можливостей мережеорієнтованої моделі навчання прикладного програмного забезпечення загального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лідження можливостей застосування Web-СКМ для підтримки курсів математики у школах та вищих навчальних за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несення засобів навчального призначення у Web-середо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ередовища для мобільного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47F-6BD7-4A24-87E3-0D71A145F02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65520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вдання дослідження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 Розробити методичні засади організації позаурочної самостійної роботи учнів у процесі вивчення програмного забезпечення математичного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 Дослідити можливості застосування мережних систем комп’ютерної математики для навчання програмного математичного призначення з використанням засобів  технологій дистанційного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7B8-5359-4F7A-AAB0-64B50EF9E0C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2840040" cy="21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751600">
            <a:off x="380520" y="628560"/>
            <a:ext cx="2819520" cy="211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864600">
            <a:off x="5943600" y="2819520"/>
            <a:ext cx="2835360" cy="2125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 rot="1289400">
            <a:off x="367920" y="4047840"/>
            <a:ext cx="283212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8" name=""/>
          <p:cNvSpPr txBox="1"/>
          <p:nvPr/>
        </p:nvSpPr>
        <p:spPr>
          <a:xfrm>
            <a:off x="3886200" y="11430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0066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330066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 rot="20952600">
            <a:off x="4327560" y="4350960"/>
            <a:ext cx="2835360" cy="212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829-F682-467A-AAFC-562FF0A4ECE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6172200" y="28951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4419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65760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8088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міс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ого факультати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88620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ий факульта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3886200"/>
            <a:ext cx="27432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828800"/>
            <a:ext cx="2362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 у С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 у середовищ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99840" y="36576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7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0" y="1523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2514600"/>
            <a:ext cx="3200400" cy="1219320"/>
          </a:xfrm>
          <a:prstGeom prst="rect">
            <a:avLst/>
          </a:prstGeom>
          <a:solidFill>
            <a:srgbClr val="d8d8e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ка організації самостійної роботи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 опанування програмного забезпечення математичного призн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04920"/>
            <a:ext cx="27432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глиблене вивчення розділу “Прикладне програмне забезпечення навчального призначення” шкільного курсу інформатики засобами діяльнісного середовища для алгебраїчних та геометричних досліджен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09680" y="4419720"/>
            <a:ext cx="4724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181120" y="4419720"/>
            <a:ext cx="17528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334120"/>
            <a:ext cx="25146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струменталь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Д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СК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952880"/>
            <a:ext cx="2361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структивно-методичні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атері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итерії о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32767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дакт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посіб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пекти дистанційних уро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вдання для практичного вико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еодод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стові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E8F-FBEE-458A-A66B-5EF492EDB4C1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55200"/>
            <a:ext cx="6934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вдання дослідження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ити окремі компоненти методичної системи навчання розділу “Прикладне програмне забезпечення навчального призначення” шкільного курсу інформатики за допомогою мережних систем комп’ютерної математики та програмно-методичне забезпечення дистанційного факультативу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«Комп’ютерні технології у наукових дослідженнях»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для підтримки самостійної роботи учнів у мережних системах комп’ютерної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Експериментально перевірити ефективність організації позаурочної самостійної роботи учнів у процесі вивчення програмного забезпечення математичного призначення у формі дистанційного факультат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993-236B-46F7-BDFC-67D91C444D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’єкт дослідженн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8076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з інформатики учнів старши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43828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редмет дослідження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809880"/>
            <a:ext cx="7848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ка організації позаурочної самостійної роботи учнів старших класів загальноосвітніх шкіл з опанування мережного програмного забезпечення математичного призначення засобами технологій дистанційного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112-EA36-4B60-B167-99995E44C4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Наукова новизна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перш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теоретично та експериментально обґрунтовані окремі компоненти методики організації самостійної роботи учнів з вивчення мережного програмного забезпечення математичного призначення засобами технологій дистанційного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уточнено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навчального матеріалу розділу «Прикладне програмне забезпечення навчального призначення» шкільного курсу інформатики, опанування яким сприяє формуванню навичок самостійної дослідницької роботи з використанням систем комп’ютерної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були подальшого розвит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етодичні основи застосування технологій дистанційного навчання старшоклас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682-F396-4EE5-AFDC-8B0ADFE453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рактичне значення</a:t>
            </a:r>
            <a:br>
              <a:rPr sz="3900"/>
            </a:b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слідження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ґрунтовано вірогідність припущення про те, що об’єднання систем дистанційного навчання та комп’ютерної математики у єдиному діяльнісному середовищі для підтримки учнівських навчальних досліджень та його систематичне і цілеспрямоване використання у процесі вивчення програмного забезпечення математичного призначення сприяє підвищенню інформатичної і математичної культури учнів та рівня їхніх навчальних досягнень учнів, формуванню навичок дослідницької діяльності з використанням систем комп’ютерної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лено окремі компоненти методичної системи управління позаурочною самостійною роботою учнів з вивчення мережних технологій математичного призначення засобами технологій дистанційного навчання в старших класах загальноосвітніх шкі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E5-69C2-4215-BB49-ED14CE3A1F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рактичне значення дослідження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лено і впроваджено в навчальний процес програмно-методичний комплекс навчального призначення, реалізований у вигляді електронного посібника, що містить теоретичні положення, систему демонстраційних прикладів, відеоуроки та засоби для генерування математичних текстів в системі дистанційного навчання MOOD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лено дистанційний факультатив «Комп’ютерні технології у наукових дослідженнях» для учнів старших класів загальноосвітніх навчальних закладів на основі платформи дистанційного навчання MOODLE та мережної системи комп’ютерної математики S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ка висунутих теоретичних положень доведена до практичної реалізації у вигляді посібника для практичної підготовки та дистанційного кур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45A-CF01-4CB4-86BA-D797EFD44F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lana</cp:lastModifiedBy>
  <dcterms:modified xsi:type="dcterms:W3CDTF">2009-10-15T13:09:06Z</dcterms:modified>
  <cp:revision>4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